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2CEB-06A1-4514-882F-6D5B42FC685A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F886-F1F8-4C45-84BD-FE6ED901C7AF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D7C5-27F3-4BFF-9EB3-C679AD37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AEAE-5C8C-4F78-8F84-C91044C8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7BF6-EF7C-4752-92C4-F472006F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B58C-B0D9-4946-8016-3C7B0E2B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BF09-1311-4A06-80E4-22E9BDD6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4665-4C20-4413-830F-45A76CA6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1A35-1686-41F9-A67A-48BD8B1E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73D7-BEA2-45E2-BBA6-6EB54B5A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6426-F3F4-4ACA-AB29-DC2E0EB3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8000" y="58320"/>
            <a:ext cx="728352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1852-021B-43F7-88DD-AC0A3541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D3A3-85A3-4C04-9399-BAF2CB4B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37D2-B383-468B-829E-55FAD843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9AC0-BA68-4096-8954-ADCDC234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CC0A-1C07-4F64-91A9-DC1B9DBD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86D8-860C-4CCD-817A-27046A61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A626-CADC-4C32-82BE-30E48AD1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36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508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2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9495-15E4-49F1-842F-5F1DD170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2C2A-B398-41BE-949B-0E0920B8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8A1D-FD20-4173-9924-B372C5C2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5372-4D49-4E01-B2E5-1FACB7A3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8000" y="58320"/>
            <a:ext cx="728352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1E3D-3C32-4D88-A1BB-C5A9CDAB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B63B-7F6E-4637-975E-4E7D3342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EFF1-71B7-405B-9184-C23FE35C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E67E-4154-4BEC-8880-0F955615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5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E9AF-93CF-43D7-B75D-C231CBA0EE9B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MF-logo-bjalo"/>
          <p:cNvPicPr/>
          <p:nvPr/>
        </p:nvPicPr>
        <p:blipFill>
          <a:blip r:embed="rId2"/>
          <a:stretch/>
        </p:blipFill>
        <p:spPr>
          <a:xfrm>
            <a:off x="250920" y="5996160"/>
            <a:ext cx="863640" cy="8618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6568920"/>
            <a:ext cx="9144000" cy="289080"/>
          </a:xfrm>
          <a:prstGeom prst="rect">
            <a:avLst/>
          </a:prstGeom>
          <a:solidFill>
            <a:srgbClr val="0000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539640" y="57340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Министерство на финанси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2" descr="Logo NSRF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88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MF-logo-bjalo"/>
          <p:cNvPicPr/>
          <p:nvPr/>
        </p:nvPicPr>
        <p:blipFill>
          <a:blip r:embed="rId2"/>
          <a:stretch/>
        </p:blipFill>
        <p:spPr>
          <a:xfrm>
            <a:off x="250920" y="5996160"/>
            <a:ext cx="863640" cy="861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1"/>
          <p:cNvSpPr/>
          <p:nvPr/>
        </p:nvSpPr>
        <p:spPr>
          <a:xfrm>
            <a:off x="539640" y="57340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Министерство на финанси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5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DF2F-F361-4C8F-9BB8-D6A591977D0B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0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0" y="6568920"/>
            <a:ext cx="9144000" cy="289080"/>
          </a:xfrm>
          <a:prstGeom prst="rect">
            <a:avLst/>
          </a:prstGeom>
          <a:solidFill>
            <a:srgbClr val="000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0" y="1052640"/>
            <a:ext cx="9144000" cy="72720"/>
          </a:xfrm>
          <a:prstGeom prst="rect">
            <a:avLst/>
          </a:prstGeom>
          <a:solidFill>
            <a:srgbClr val="ffd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6524640"/>
            <a:ext cx="9144000" cy="73080"/>
          </a:xfrm>
          <a:prstGeom prst="rect">
            <a:avLst/>
          </a:prstGeom>
          <a:solidFill>
            <a:srgbClr val="ffd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0" descr="Logo NSRF"/>
          <p:cNvPicPr/>
          <p:nvPr/>
        </p:nvPicPr>
        <p:blipFill>
          <a:blip r:embed="rId1"/>
          <a:stretch/>
        </p:blipFill>
        <p:spPr>
          <a:xfrm>
            <a:off x="0" y="1089000"/>
            <a:ext cx="4932360" cy="53992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2"/>
          <p:cNvSpPr/>
          <p:nvPr/>
        </p:nvSpPr>
        <p:spPr>
          <a:xfrm>
            <a:off x="4932360" y="2205000"/>
            <a:ext cx="4211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8"/>
          <p:cNvSpPr/>
          <p:nvPr/>
        </p:nvSpPr>
        <p:spPr>
          <a:xfrm>
            <a:off x="5580000" y="47530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4932360" y="1644480"/>
            <a:ext cx="421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цепция относно цели, приоритети и мер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областта на административния капацит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техническата помощ, които да бъдат финансирани през програмен перио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14-2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5651640" y="56624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Ирена Първан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Директор на дирекция ОПТ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ІІ : Гарантиране на ефективност и устойчивост на системата за управление на средствата от Е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оритет: Функционираща система за управление на средствата от ЕС в съответствие с принципите на доброто управл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1.Мерки, свързани с осигуряване на ефективно, ефикасно и регулярно изпълнение на политиките свързани с усвояване на средствата от СКФ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държане, развитие, оптимизиране и гарантиране на устойчивост на системата за управление, координация, мониторинг, контрол и одит на средствата от Е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крепа за изпълнение на стратегически дейности на системно ниво, свързани с използване на средствата от СКФ на Е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игуряване на информация и публичност за средствата от ОС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ІІ : Гарантиране на ефективност и устойчивост на системата за управление на средствата от Е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. Мерки, свързани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витие 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усъвършенстване на информационните системи за управление на средствата от ЕС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ерки за поддържане, развитие и допълнително усъвършенстване на ИСУН 202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сигуряване на условия за функциониране на ИСУН 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ІІ : Гарантиране на ефективност и устойчивост на системата за управление на средствата от Е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оритет: Транснационално сътрудничество: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сърчаване на взаимното обучение, с цел повишаване ефективността на политиките, подкрепяни от ЕСФ, като включва партньори от най-малко две държави-член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Мерки за обмяна на опит и експерти, координиране на съвместни действия в отделни области на взаимодействие, обмен на информация и добри практики за прилагане на принципите на добро управлени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МНОГОФОНДОВО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ФИНАНСИРАН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обходимост от обвързаност и интегрираност на мерките с цел , постигане на синергия и цялостен резултат от прилагането 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обходимост от една обща политика и стратегия, съчетаваща в себе си мерки свързани с повишаване на административния капацитет на публичните институции и съдебната система, както и гарантиране на ефективността и устойчивостта на системата за управление на средствата от 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Благодаря за вниманието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6165720"/>
            <a:ext cx="22334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Най-важните стратегически документи на европейско нив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атегия „Европа 2020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атегия цифрова Европа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Конкретни препоръки по страни (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Елементи за Обща стратегическа рамка за периода 2014-2020 (работен документ на Европейската комис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озиция на службите на Европейската комисия за подготовката на Споразумението за партньорство и програмите в България за периода 2014 – 2020 (проек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Най-важните стратегически документи на европейско нив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оект на Регламент на Европейския парламент и на Съвета за определяне на общоприложими разпоредби за ЕФРР, ЕСФ, КФ, ЕЗФРСР и ЕФМДР, обхванати от Общата стратегическа рамка, и за определяне на общи разпоредби за ЕФРПроект на регламент за Европейския социален фонд (ЕС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оект на регламент за Европейския социален фонд (ЕС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оект на регламент за Европейския фонд за регионално развитие (ЕФР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Доклад на Европейската комисия до Европейския парламент и Съвета относно напредъка на България по Механизма за сътрудничество и проверка (18.07.2012 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Най-важните стратегически документи на национално нив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ационална програма за развитие „България 2020“ (НП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ационална програма за реформи Европа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Конвергентна програма на Р България 2012-2015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атегия за развитие на държавната администрация до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новационна стратегия за интелигентна специализ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бща стратегия за електронно управление 2011-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ационална програма „Цифрова България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Най-важните стратегически документи на европейско и национално нив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лан за намаляване на административната регулаторна тежест за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Актуализирана стратегия за децентрализация 2006-201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атегия за продължаване на реформата на съдебната система в условията на пълноправно членство в Европейския съюз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ждинна оценка на НСРР 2007 –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ждинна оценка на ОП „Административен капацитет“ 2007 -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Arial"/>
              </a:rPr>
              <a:t>Обща стратегическа цел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2492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овишаване ефективността и ефикасността на публичната администрация и съдебната система за провеждане на политики и предоставяне на услуги на гражданите и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7489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: Модернизиране на управлението за предоставяне на висококачествени публични услуги за гражданите и бизнеса. Повишаване ефективността на администрацията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оритет: Повишаване на институционалния капацитет на публичната администрация за провеждане на политики и предоставяне на качествени и интегрирани усл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1. Мерки, свързани с провеждането на политики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обряване на процеса по разработване и провеждане на политики и интелигентно регулиране за намаляване на административната теже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сърчаване на организационното развитие за ефективни административни структур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сърчаване усъвършенстването на политиките за развитие на човешките ресурси и въвеждане на практики и стандарти за тяхното управ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сърчаване участието на гражданското общество при разработването и прилагането на поли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сигуряване на Председателството на Р България през 2018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: Модернизиране на управлението за предоставяне на висококачествени публични услуги за гражданите и бизнеса. Повишаване ефективността на администрацият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2. Мерки, свързани с предоставянето на интегрирани административни услуги, включително електронно 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витие на съществуващата и изграждане на нова информационна инфраструкту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ъвеждане на нови и подобряване на съществуващите услуги, включително тяхното интегрира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вишаване на информираността на гражданите за дейността и отговорностите на държавните институции и предоставяне на публичен достъп до съответните бази дан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І : Осигуряване на качествена и независима съдебна систем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оритет: Продължаване на реформата на съдебната система и повишаване на нейната ефективност и ефикас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. Институционални мер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Укрепване на капацитета на правосъдните и правоприлагащите орг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вишаване на квалификацията на магистратите, съдебните служители и разследващите орг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2.Мерки, свързани електронно правосъд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недряване на информационни системи, ориентирани към обслужването (електронно правосъд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ъздаване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 стандарти за обучение в областта на информационните технологии, специализирани за магистрати и съдебни служи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05:28:34Z</dcterms:created>
  <dc:creator>Milena Pehlivanova</dc:creator>
  <dc:description/>
  <dc:language>en-US</dc:language>
  <cp:lastModifiedBy>Ирена Първанова</cp:lastModifiedBy>
  <dcterms:modified xsi:type="dcterms:W3CDTF">2012-10-16T07:09:36Z</dcterms:modified>
  <cp:revision>245</cp:revision>
  <dc:subject/>
  <dc:title>НАЦИОНАЛНА СТРАТЕГИЧЕСКА РЕФЕРЕНТНА РАМКА</dc:title>
</cp:coreProperties>
</file>